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0200" cy="455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3986280" y="0"/>
            <a:ext cx="3039840" cy="455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219320" y="688680"/>
            <a:ext cx="458784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37800" y="4367160"/>
            <a:ext cx="5149800" cy="4137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8"/>
          </p:nvPr>
        </p:nvSpPr>
        <p:spPr>
          <a:xfrm>
            <a:off x="-360" y="8736120"/>
            <a:ext cx="3040200" cy="44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9"/>
          </p:nvPr>
        </p:nvSpPr>
        <p:spPr>
          <a:xfrm>
            <a:off x="3986280" y="8736120"/>
            <a:ext cx="3039840" cy="44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56681-9262-43C9-8614-F0CB6C8AC1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192-7BD8-43AE-AAA2-856E944F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2880" y="412992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F35-3427-4757-8173-E3FFD43F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052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8FD-C505-4586-9BC9-A3BF9276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764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240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288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9764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240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364-77F2-4D9A-8EE2-E0657388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BD88-46DE-45BA-8E59-FC78F9CE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0F1F-7FE9-4050-B5CD-ADA6F403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2FBF-96B5-46F6-8CEE-0A03FC2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8118-8D4A-433F-B14D-7643A775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D2C4-4AF2-4A06-8632-64897024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2880" y="456840"/>
            <a:ext cx="77626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F14D-28E0-4A93-BB0E-CD9F4F1D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D001-649E-4D00-970E-4EBACBF6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E2F-DC25-45A3-9D58-8FB4BC4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052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AD7E-3F0A-4B1F-B4F8-BC035416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0613-85DA-4974-93DC-676E4BB8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2880" y="412992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781-A2BE-40E9-8EE6-6D8E6768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052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5F25-8D72-4C16-ADE6-FDB71A23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9764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240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288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9764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240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D491-607C-4743-87C5-80DD005C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3FE-481C-4DB8-8EAE-FCBC9BDB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343-03E0-45F0-8E88-E81E7AEC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261-A963-44A0-8222-729C399E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2880" y="456840"/>
            <a:ext cx="77626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E9D-A9FD-4D67-8204-434AB508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EA3-18E5-4849-BF39-2C5BE40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052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A3F-E7F0-44B9-9580-2DA86F5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998-3847-47E8-8AFA-9C8C641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1149480"/>
            <a:ext cx="1080360" cy="9156960"/>
            <a:chOff x="-720" y="-1149480"/>
            <a:chExt cx="1080360" cy="9156960"/>
          </a:xfrm>
        </p:grpSpPr>
        <p:grpSp>
          <p:nvGrpSpPr>
            <p:cNvPr id="1" name=""/>
            <p:cNvGrpSpPr/>
            <p:nvPr/>
          </p:nvGrpSpPr>
          <p:grpSpPr>
            <a:xfrm>
              <a:off x="166680" y="-1149480"/>
              <a:ext cx="762120" cy="9156960"/>
              <a:chOff x="166680" y="-1149480"/>
              <a:chExt cx="762120" cy="915696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174600" y="-1149480"/>
                <a:ext cx="74304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174600" y="111456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174600" y="573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174600" y="-94464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174600" y="16992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174600" y="-236520"/>
                <a:ext cx="74304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74600" y="-647640"/>
                <a:ext cx="752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168120" y="4111560"/>
                <a:ext cx="74304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68120" y="3570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168120" y="205092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168120" y="316548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168120" y="2760840"/>
                <a:ext cx="74304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166680" y="2347920"/>
                <a:ext cx="752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174600" y="548640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74600" y="494496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68120" y="6423120"/>
                <a:ext cx="7430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25440" y="7404120"/>
                <a:ext cx="462240" cy="7444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68120" y="7132680"/>
                <a:ext cx="74304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166680" y="6719760"/>
                <a:ext cx="752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49840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895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09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E23CD-8BB9-4E02-A93C-76DCF84A54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38240" cy="1012320"/>
              <a:chOff x="-3600" y="2479680"/>
              <a:chExt cx="9138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79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0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887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38240" y="278208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240" y="2750760"/>
                <a:ext cx="990720" cy="466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40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832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52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34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40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212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6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0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2880" y="198360"/>
            <a:ext cx="776268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40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09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C07D8-1CF1-4CE3-9DE1-FC3B8F3692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ebstandards.org/learn/faq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ikimatrix.org/" TargetMode="External"/><Relationship Id="rId2" Type="http://schemas.openxmlformats.org/officeDocument/2006/relationships/hyperlink" Target="http://c2.com/cgi/wiki/WikiDesignPrinciple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6400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1068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y Blog @ the </a:t>
            </a:r>
            <a:br>
              <a:rPr sz="4400"/>
            </a:b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      School Library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033640"/>
            <a:ext cx="7772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YSIWYG web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limit or maintain levels of access i.e., public, staff,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sted off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 support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blogs ar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How Are Blogs Used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356840"/>
            <a:ext cx="77724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lideshare.net/informationgoddess29/edco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Advantag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67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one can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HTML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are im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s and links are instant &amp; aut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one knows everything, but everyone knows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hands make ligh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s are easy to view and 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Web Standards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ebstandards.org/learn/faq/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Blog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d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ology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er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y Do Blogs Work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one owns it, so everyone is responsible and feels a sense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 groups of volunteers are very de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ream rises to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s generate a culture of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ourse is court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en Do Blogs Fail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m, though discouraged and deleted, still rears it’s ugly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agreement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ries and threads get off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urnalistic ethics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ing canbe a very personal 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1292040"/>
            <a:ext cx="7772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Examples of Blog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104760"/>
            <a:ext cx="77644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Resource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1680" cy="23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el.icio.us/informationgoddess29/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eb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ki Matri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for comparison of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ikimatrix.org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ki Design Princi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 list of concepts by creator Ward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2.com/cgi/wiki/WikiDesignPrincipl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Prin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nningham, Ward and Bo Leuf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Wiki Way: Collaborating and Sharing the Interne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Addison-Wesley, 2001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bersbach, Anja et al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ki: Web Collabora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pringer, 2005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short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blo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blo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a simple webpage in chronological format, updated regula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ten convey a persona or personality, and can be created with a minimum of technology know-h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also be a verb, meaning, the action of composing and maintaining a weblog, as in this sentence: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g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yone can become a web auth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like a bulletin board or newsgroup where people can post and respond to messages, with the incorporation of links, images, sound and video for an attractive, multimedia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blog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combination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 Makes it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ronological p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SS F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ing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Types of Blo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511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onal (celebrities, writers, YOU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porate (companies, businesse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tical (candidates, organization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er &amp; student (schools, 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brary (public, private, school,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o blogs (podcast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oto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deo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y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share or convey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promote or market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ress a viewpoint or age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ress yourself/your 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cor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eet like-minded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What’s a Wiki</dc:title>
</cp:coreProperties>
</file>